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0B2-3A5F-4AF0-B943-A09633F0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20E-ECEA-4CDE-A94A-408E31D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5B839-68F7-4E24-8ED6-AD027C8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49C3E-0D67-4E4F-932D-C860E37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80AA-3F15-4B6D-BA68-33EDD48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B4731-C648-4FF2-9910-224A4B2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BE66F-E477-4213-93C6-39188BD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444F4-AD0B-4F68-A75E-24ED1E0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2FC56-21FE-440B-BA54-D4A117D1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5C0B-56E1-4865-BA42-921241D6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49911-E0C3-4726-B96C-693DD96C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E3707-E44C-4451-A18A-6A864339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8BC-D18D-4FFD-B3BC-C6AF2053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5AB6C-DD78-4C09-BEC2-9B471A4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CE231-97E4-479F-A245-B970BEC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71B59-FE4B-41FA-8F8A-921BC41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7D864-4236-4D3B-9A43-53DDD11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8F974-05BE-43DB-B3FE-29ABA18C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FFF2-C39D-4355-8C0B-F0A3ACD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4D82A-B523-4B34-AAB4-A884DCC1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DC01-0622-44D8-9278-9E062EE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62F6-70D3-4069-A9D9-C3394F94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71581-7860-4B0D-BBB4-6F2BF078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7D5-B472-4E6B-BF70-AE4DCEE0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BC5B6-BFA2-4DAE-A583-8D200697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4688D-3B26-4113-9972-114796B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75B62-F6A2-4294-A9BE-418C3AAC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70976-75CF-4BB9-8951-2A425B26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9702-357A-4847-9113-E69FAAE8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1AA06-327A-4115-8E96-6873AD8E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8B31-A265-4B88-B4CB-F56C7CE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E9FE7-EA2F-457F-A205-9F1CCF2E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B6B54-BB30-4CC9-9C18-BFFE364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3A15-393C-40DB-B751-262B17C5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680-26AB-4A10-89A9-7D02FC00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76EFC-3CAB-46EB-95B8-069806C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CD539-B5AB-4D86-A567-47A8ABFB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612F0-1BB1-4FBF-A279-70FCE02F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02A70-8393-44BE-8F66-7A383B51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D5A0E-A06E-440D-ABDB-25E9A5D0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1922-631F-409A-83F3-F646DDD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F3D8F-ED46-465B-9810-47D45FB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1CAD1-A3FB-4D58-BE5E-F042BFC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73BE3-0775-476C-8F57-990A3228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D85B-6BC9-46B5-B990-ABBBA7F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B4A4-96A9-4668-9ED8-0856E8F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471B5-9590-49E8-845B-FC98A88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284D-1CB7-4139-99FE-84967D4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83FF6-8843-4C9E-B002-686F20F9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7AF97-60AE-4444-AB86-21B20424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9A964-ABCA-4FC5-AD76-B10978E8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31AD3-CF9C-4401-838A-ADC600C0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9EB58-F324-4266-95AC-3EB163D9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2C64B-D2BD-4C52-92D3-1E0F219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48587-EF94-42B2-8206-7553988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C2EEA-118E-4D28-B0EA-F6A2BE3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0166-79A7-495B-9E9E-1B4A1AE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5CBCF-FCE8-4CA5-9741-AA51F5C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DB3EA-798E-4E5E-8E76-8BA0691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8BA27-FCA5-4B7E-AA49-3CDD93C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5899C-0157-43A2-87BC-1775D77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5B00-64F7-47C2-959D-FD5E634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BE0AD-C0E7-45A8-AE61-3CED49BD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6D1C2-CBA3-4811-B30D-7A949507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981DA-4017-4798-B7C4-64828001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F25E5-7EA0-4DA8-9B68-DB23759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9134F-4B41-4FE0-ABE5-9AF3DBE7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D24B-CC11-4BBA-87F1-8C4075EB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0AF55-2119-4EB8-BA5B-5EF33054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5412E-A68B-409E-B420-6E3F1613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F75D1-336F-427D-B4BE-C683F2AB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E04AC-9DE7-4E07-A02C-D6AF239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F5055-D3A5-4DD7-A755-A6E2619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7B225-D608-4BE7-AE1D-97E347F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BDDA2-D39D-4EB5-9459-9D81BC0D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BC8A0-FB2E-40C7-9C91-05818E07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DB80D-1B96-46C5-BAC0-4DC7134A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D8E9C-F887-49F8-B7EB-F2BC2053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990-F453-429C-BAEF-90102764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3957A-F083-4FC1-BF28-29FE826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085ED-C357-4C6F-8833-4AD6BBF5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182EF-B017-40A4-8169-52A3623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7BA2F-51B9-4BEB-9520-CF0C4B2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33F02-B710-42BA-A556-CF9D5E9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819FB-58F3-436F-A1A7-9DA8A19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B81F2-6452-4848-822A-4956FE1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96C9B-E6F5-4003-9540-9891EFE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776B9-46C1-4115-82F4-FA6D580E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2BC0F-B66F-4140-A215-5C7F18BE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E80B-D8B2-4460-B183-ABBC60D8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1A48F-97F9-46D3-A259-52BEFDC2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F9D29-A585-4AFD-AAA9-614C40D6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43563-3973-4C44-AFEF-6848C0AF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7539F-DE03-4712-AEBD-65175AB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C9F9B-9A40-42A1-BA3E-C6F379F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693A9-DD5F-46F0-90E2-3888870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2A9E9-5085-4932-9B50-F82CEAC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420EA-EB57-4DA2-AC19-D061DDF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079F2-16FC-4EF0-8BD9-BBEF2BE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09F3B-80BE-4542-8F1B-CC42D16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9A3B-D742-4773-90C9-132B5E83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0BAB2-0A3B-430F-A96A-9F9B8EBD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54644-FC7B-4ADF-9C07-E3B473C6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9D8DA-9679-4FA4-9151-3B8BE170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BEF89-42D3-4C29-93A6-0EDF9384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D907A-34B7-4BA3-B190-16151ED8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A91AA-75A9-4C32-A388-F4A20FA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797F4-A830-40E0-ACCD-5C49B63E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F6E41-94C4-470A-992C-B282C18B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5F2AD-1E11-4483-A1C6-FB8F23BC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37684-1DAE-4EED-8C14-2F7B0147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65D-38AB-4FE0-9104-FA52129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B05E-73A4-4CD3-BCE3-BBC1CA1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F8228-E38B-4545-96F8-C6A2774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D0625-D5ED-4875-A4BD-C86AC82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C6910-6B72-4696-83F7-85F171A5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F76E1-9ECE-45A3-AF55-4B00C160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D5CB7-7063-441E-AE98-7B9F148D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24750-76AD-4134-A96C-07E6BBC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F41F9-497C-4A64-B4A9-A4DDC64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DBB01-EA58-4E90-88FA-B77CF3AA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AA98E-4E52-4EE8-8C91-37F761E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60E06-379F-46F2-AE9D-F31578A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A60F-523B-4573-B87F-6233D368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7DA08-45DD-49E3-8692-9DE6DA7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16B38-82E5-4862-A51D-64D4F43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5127C-6134-4851-8932-48DF0B3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C10D4-026F-4D37-8349-F884F62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EACB0-BC26-46C1-ADB2-406F901D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3B5E3-7FEC-41C3-9427-FDB4042B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F2B52-978C-4645-8493-7E25DE64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EE86A-CF22-4124-8181-F3F95DE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7150C-8021-41DA-8936-8D5CDBA0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84FC4-A970-4B95-9704-B369C9F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C11C-66D6-4031-8C2B-DE8A673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D90F0-00A1-4BB8-B2ED-E4FE444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97402-87C1-4D81-AB2D-23BEE51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39202-CCFE-4890-95F7-D5CE5DB3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41B3F-A8C8-4466-8343-107D833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B282F-75EF-482F-9463-7363449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5D288-40AA-44DA-9895-57DB791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1345E-A855-4CF9-A8C4-7EEBF64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B3779-42AD-44F3-9100-D3901FC1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945AE-D110-4621-AC68-DFE55D45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2722F-BFDA-4819-B64F-86AE8821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C4E4-A874-42EC-948A-B92AFAF1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B3A5D-9EB0-4669-8E36-26608BEE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A340A-337A-4F13-A855-0C91756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E1648-D3CE-4996-B89C-2F4606C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7748A-F45D-4336-9D43-C3E9192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C0118-A954-4DE6-A48D-02BB4B4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213B9-A1E2-459F-B82C-BD534D9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944D3-7068-4F82-BFA6-5054FBE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3DE7B-A01B-45DC-8EAB-1F243EC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CCC25-DBB2-4BF1-99B2-CD3852EA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621C0-D239-4B40-98D0-9757A073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D52-D9C9-4603-B2E3-53BA34DE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B9EE6-7724-481A-9FE6-9122FE0B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6F3704-3FEA-4A8F-BF6D-690E8FBD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0557A-D45C-4478-AA91-D4A7A7E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2F63D-F5F4-4BF4-8112-87079670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5C5B7-CDBB-477D-995E-E747525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C60DE-6C63-484C-8045-1017822F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B45AB-2888-4CC6-B84F-98C84C04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49AF6-29B4-46B0-BCC1-2EFDD256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CF8AD-58A8-4AF1-ABA4-EB15F3D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77002-12A8-4425-B444-C23A3D0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7F88-11ED-4A57-8D6D-0D4E6877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66241-6478-44E8-9803-DAC89938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E9D1E-3869-44DB-9F46-9463D6EA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FAC4F-FD62-4E33-B271-2C22AD9E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E8E76-5169-4A1D-B174-6E26A8F1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DD223A-76EA-432C-952E-4FA0954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FC0F1-1F84-4E8E-9E37-C6A8E70D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4559C-F587-4008-BAA6-A52C498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4F5DC3-AB25-4B19-95B0-0BA63DE6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F669F-334A-4CFA-8000-E97E5BDB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BB3871-F2D5-4569-9BDC-4A68B260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49CF-0376-4CD5-A5EC-F4A9CA8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220DD-D1A3-4D6A-A684-D312218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0CEDB-93D4-4549-95E6-9DEB6E9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616DC-C4F5-4A71-9C8F-7588CA6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0B5639-E4F6-46FC-901B-258EB4F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1E5DC4-CA00-4DD8-995F-0BCE015C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7196-860F-4DA8-99BC-63344480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9518-7CDA-4A69-B8BB-99963FBB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02FD-0907-40B9-9791-2D8917D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321-1531-42D0-825A-3D1B639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A613-AEFE-46B0-9795-271C946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5747-D0D0-44D4-9FBB-5E542A2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E6DD-1F70-4275-B014-2C5EE81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018C-F7BB-464D-9FDF-68DE61B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10E8-60CB-4443-A597-68B4DE13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2A51-6164-4B29-B1E6-37D4593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4812-A3E7-4C31-A70D-24112D9E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4547-DB9B-4EC6-8832-BC6EE33E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BE74-D77F-4747-9D09-26E57B52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573F-D848-4A1D-A7F7-DE7E36A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C2D-6ED0-4A53-968E-3808472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A8B9-4289-422C-9E95-3598E77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5F65-A399-4398-B9E9-8BE80FF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E9FE-0BFF-4F47-A5DD-3CDBD9F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C981-8CA6-43BF-8591-354C529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413A-285D-42D5-9F39-3E54215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BA3E-6141-42EF-B295-816C819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6221-F6C1-4781-AAD1-8C8B80A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12EA-2FD0-438B-B64C-98E03352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CE3A-E493-40E3-AC0C-A49948F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C216-2D51-4664-BC91-4E82A287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5B5-CFD5-41BE-9AEB-5CC08E98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CA7F-56E6-4CEA-8445-0D69A57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78FD9-E15C-453C-AF5C-23FFF33C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D649-ABDA-450E-8DFA-DC466D0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D551-89B7-4C96-B73F-50D06413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81CE-72C3-464D-8477-473ED50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CDAE-6CD5-4B47-BCA5-C22CD4F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E2122-BD3C-4FCB-B72F-340CC8F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3CBC-2D5E-449C-ABA6-5DED4EB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18A8-2E23-4187-8EE5-988AEBAF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A6AA-E287-4CC8-AF71-83A0956A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513-1A87-43B8-910B-2E573CC3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7436-109B-42B9-8455-C9BBF60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198A-FAFA-4882-84C3-79097D43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5F54-59AA-4B1D-B99B-CCCA117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2947-A897-4C2A-8953-0CFF873F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391D-D9B6-4425-AD1F-5D9555D0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32FC-6802-4FFC-BFC7-2656B15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76E7-BB93-47F9-9141-B40F3116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523E-6A89-4820-801E-6C64DC0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8DE1-0720-4924-99A5-638DD82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5D32-2957-4EAD-960E-D8CE908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E2A-4576-41E6-8341-188B33D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572EE-D9DE-4F86-B7DF-3418967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924A-537E-4B65-9E37-3A54151E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EDC42-FA94-43B0-9CFF-2D7A7931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3E951-917D-4242-9814-0E520A77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8725-8E7D-4E21-9155-7FE2D3D3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DAE1-B2BB-4179-8DD7-C8A0EC3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F185-5CC1-45D8-BE50-8308CBE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7EA5C-826F-44AA-AEC0-9C8AC6C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4B09-FA0B-4182-9295-10F05B0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6A0D-7E77-44F8-AFA5-CE539C6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375-D848-46C8-8376-F71FE84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811C-5458-42C3-92DD-D01F9B0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7573-989A-48F8-8CC5-D1EC58C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323B-4D1C-4921-9972-A91D087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2280-17C2-4805-862E-6302FDEE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2A59-F3C5-41D6-B65A-708EF46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9A77B-BAA4-45D2-926D-EAE9083A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A7FC-FCAE-4139-BF41-2C31D06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008A-0DFC-4B8F-8080-96B4AE7A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E931-F2F3-4496-891C-EE00693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84FF-455B-401C-A2A2-50126A71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C05-7243-44E7-8758-97203E1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E13E-2D99-4E5C-8073-2F62249C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63BA-7B77-4DFC-B8BA-9C0286D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53D2A-1685-49DA-9F55-B863EB3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F18D-1A5B-497A-AF79-8F4BFD0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79FF-E36A-4528-90D0-7D698149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875F-E215-4EFF-B9B6-B17F00F0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3298-E04B-4A10-A722-D47BA533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E78FA-C993-4607-9BEB-DDDD51E8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44D4-E4F1-4ACE-BE2A-11B909F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6D9E5-2E4E-437B-A663-F0338E2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FE6B-A758-44A6-BB50-B655EB21EC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294-67A8-4C8B-A1A3-B157014A9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2E6-2A82-4DBA-A2E2-DDB23EFBF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F26-53CF-40A1-BDAA-1DC153BF3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E6A0-34A5-4AE2-8DE7-9A4126B39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8BD-C55B-4372-9E4E-A8AE1F9A8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350-BB6E-4E64-9F73-7B154336E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FD6-F2D6-4FA9-A4AD-53371F659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55B-AEA9-40B1-90B9-C8C0B7DDD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EEB-7E6C-4C6D-A5EE-C4C6F69871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D45-46E4-4712-9B47-D429B8EE0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A99-8861-4A9B-B896-D67DFDF85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FCB-42DF-4DBB-B777-238298093A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ECF2-6AEC-4A69-9886-CB2A183EF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86E5-621D-4217-83C6-0290D7B03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056-DF27-4A0E-B0C5-E222716A2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EE4-029F-4C04-845A-9160F7C08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FE22-8A6C-432C-98F2-3CA4EB4BF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ED2-380E-46E0-96B3-9AD352581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81E8-8791-4555-89D3-B7836AFE6B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7F11-8942-40A9-BFDA-67E0B93F7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825D-FAF9-4EB2-9FAB-6FF10E65E6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E4C5-7ADE-441D-8D3B-91ECAB9CD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D2E7-808E-416B-B07B-1DE3CCA28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901-4E19-4800-889E-BA03059830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737-A1D3-4F76-B85B-16C777210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285D-4CE9-41CA-A803-D510DF3C8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85A-F866-4E5A-8BA5-920681D656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EF4-5DC3-47ED-A004-B73AF9787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36B-783A-45C9-A829-EAB8074A7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50C-CD03-4BF7-B501-4D740E2310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268-E487-4186-89DA-D627EDDE2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9C5-46DE-46B2-9A4F-FF9B0CA81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0C9-F232-45CD-9591-9163B54B3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F2D-067B-45DF-980B-6804B69E1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0BD-E000-4787-B7D0-F72E2DF03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C5D9-C640-400B-9435-2577F52CC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65B-DF0B-4466-B9F7-8F6B4CF5F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E31A-51E9-48A4-9DA9-1281B6CB0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5F5-85DB-40A3-BE0E-FAA2B9E4E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680-52F5-401C-B28D-29C887E24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014560" y="3095640"/>
            <a:ext cx="51148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37960" y="1362240"/>
            <a:ext cx="8668080" cy="4133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173240" y="31622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519200" y="31701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1979640" y="27082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2584440" y="315612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2930400" y="31701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995640" y="272268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651640" y="317016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6012000" y="3184560"/>
            <a:ext cx="215640" cy="191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6472080" y="27367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7093080" y="3184560"/>
            <a:ext cx="215640" cy="1918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437600" y="3184560"/>
            <a:ext cx="215640" cy="1918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488440" y="27367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1476360" y="4351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3751200" y="4351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5997600" y="4307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827388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1490760" y="47829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9"/>
          <a:stretch/>
        </p:blipFill>
        <p:spPr>
          <a:xfrm>
            <a:off x="3765600" y="47689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0"/>
          <a:stretch/>
        </p:blipFill>
        <p:spPr>
          <a:xfrm>
            <a:off x="6012000" y="4738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1"/>
          <a:stretch/>
        </p:blipFill>
        <p:spPr>
          <a:xfrm>
            <a:off x="828828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2"/>
          <a:stretch/>
        </p:blipFill>
        <p:spPr>
          <a:xfrm>
            <a:off x="4427640" y="5113440"/>
            <a:ext cx="79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169" descr=""/>
          <p:cNvPicPr/>
          <p:nvPr/>
        </p:nvPicPr>
        <p:blipFill>
          <a:blip r:embed="rId1"/>
          <a:stretch/>
        </p:blipFill>
        <p:spPr>
          <a:xfrm>
            <a:off x="219240" y="890640"/>
            <a:ext cx="8705520" cy="5076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81288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176364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234000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284328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7"/>
          <a:stretch/>
        </p:blipFill>
        <p:spPr>
          <a:xfrm>
            <a:off x="331956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8"/>
          <a:stretch/>
        </p:blipFill>
        <p:spPr>
          <a:xfrm>
            <a:off x="385128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9"/>
          <a:stretch/>
        </p:blipFill>
        <p:spPr>
          <a:xfrm>
            <a:off x="428472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0"/>
          <a:stretch/>
        </p:blipFill>
        <p:spPr>
          <a:xfrm>
            <a:off x="480204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1"/>
          <a:stretch/>
        </p:blipFill>
        <p:spPr>
          <a:xfrm>
            <a:off x="5292720" y="2795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7180" descr=""/>
          <p:cNvPicPr/>
          <p:nvPr/>
        </p:nvPicPr>
        <p:blipFill>
          <a:blip r:embed="rId12"/>
          <a:stretch/>
        </p:blipFill>
        <p:spPr>
          <a:xfrm>
            <a:off x="971640" y="3781440"/>
            <a:ext cx="7486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图片 8193" descr=""/>
          <p:cNvPicPr/>
          <p:nvPr/>
        </p:nvPicPr>
        <p:blipFill>
          <a:blip r:embed="rId1"/>
          <a:stretch/>
        </p:blipFill>
        <p:spPr>
          <a:xfrm>
            <a:off x="357120" y="1895400"/>
            <a:ext cx="8429760" cy="306720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8194" descr=""/>
          <p:cNvPicPr/>
          <p:nvPr/>
        </p:nvPicPr>
        <p:blipFill>
          <a:blip r:embed="rId2"/>
          <a:stretch/>
        </p:blipFill>
        <p:spPr>
          <a:xfrm>
            <a:off x="1417680" y="446400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99" name="图片 8195" descr=""/>
          <p:cNvPicPr/>
          <p:nvPr/>
        </p:nvPicPr>
        <p:blipFill>
          <a:blip r:embed="rId3"/>
          <a:stretch/>
        </p:blipFill>
        <p:spPr>
          <a:xfrm>
            <a:off x="5781600" y="4478400"/>
            <a:ext cx="18781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2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